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0ED-E753-4F6B-800D-0DFFEE1D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130-A366-41BF-AED6-56AA9CF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BB5-188D-4A7D-8B71-4B6F5101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73E-7C9F-4C46-B7EE-C64AAF79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46F-A4B4-4407-85FD-F8A0234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F85-A675-4A42-A2DA-42D7DEF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580-03AE-427C-9F78-8B8DFDF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5D6-59E2-41D9-84C1-5F1DBD9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9DD-F865-4562-A598-5977133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4A3-6070-4D8F-9024-736111F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451-8EEA-4B2F-89B3-DF878EC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51E-3F92-40A3-95AC-3B1132C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C8C3-BE39-4271-BEDC-EF0D539F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54:07Z</dcterms:created>
  <dc:creator>Virginia Beach City Public Schools</dc:creator>
  <dc:description/>
  <dc:language>en-US</dc:language>
  <cp:lastModifiedBy>Virginia Beach City Public Schools</cp:lastModifiedBy>
  <dcterms:modified xsi:type="dcterms:W3CDTF">2008-06-03T13:54:15Z</dcterms:modified>
  <cp:revision>1</cp:revision>
  <dc:subject/>
  <dc:title>Slide 1</dc:title>
</cp:coreProperties>
</file>